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40B-EA76-49AF-8FBB-F9D1140A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BEE-5249-4A63-93C6-3117D5E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6F9-C37E-4178-9038-B9E92017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3C1-4F63-457F-805C-7206F938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EB6-8775-49BD-B23B-DC83A60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D09-1A3B-4ACE-8E2F-0E0A7B0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A62-7F32-4D87-8ED2-2F80CFF2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AA0-1697-4AE6-AB70-5C5AEC64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10D-E435-4326-9D16-82DBF4D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575-66AA-430E-A998-4ABCBFC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861-5EAE-4C6C-9621-1DE9CC2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5DB-55FA-420A-A2B8-936DBEB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6CF9-27FB-4CD4-851D-7AD4069E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181480" cy="5562360"/>
          </a:xfrm>
          <a:prstGeom prst="rect">
            <a:avLst/>
          </a:prstGeom>
          <a:ln w="0">
            <a:noFill/>
          </a:ln>
        </p:spPr>
      </p:pic>
      <p:pic>
        <p:nvPicPr>
          <p:cNvPr id="42" name="ST%20logo%20BMP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048120" cy="414360"/>
          </a:xfrm>
          <a:prstGeom prst="rect">
            <a:avLst/>
          </a:prstGeom>
          <a:ln w="0">
            <a:noFill/>
          </a:ln>
        </p:spPr>
      </p:pic>
      <p:pic>
        <p:nvPicPr>
          <p:cNvPr id="43" name="sprayflux_panel_alt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3255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3:49:05Z</dcterms:created>
  <dc:creator>Harvey L. Berger</dc:creator>
  <dc:description/>
  <dc:language>en-US</dc:language>
  <cp:lastModifiedBy>Claudine Corda</cp:lastModifiedBy>
  <dcterms:modified xsi:type="dcterms:W3CDTF">2002-01-29T23:43:48Z</dcterms:modified>
  <cp:revision>2</cp:revision>
  <dc:subject/>
  <dc:title>PowerPoint Presentation</dc:title>
</cp:coreProperties>
</file>